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A420-F50B-4425-87A6-1B0E9483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3299-FBD3-4239-BB67-D26BC769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5CBEA-D41B-461E-83BB-7A91C867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C83F9-5596-4E1D-97EC-524E32B8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36DA1-B7E1-4767-A75E-D42C80BE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3807E-D3A2-4DF9-B464-3B17898F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95903-F6F2-43F3-A2EA-C70BEC40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11625-607C-4DA3-8D1F-9766CA32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FB10C-64EE-4807-8E6D-6E9998B4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3417E-3408-43EE-8F14-C3C9E092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30FF3-0C1A-45A6-A698-267E5A81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13BD5-655F-4B89-B703-0035CF0C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925F-5545-44F7-8938-BA2AD89B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944BF-5E4B-4F0B-8BC6-4ACC704B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30264-11F1-43AF-ABE5-8430EFE8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BB5AB-9327-48A1-AFC1-B6964AFB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3046B-F9E5-400A-AE80-FA301F5D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BA2BC-7DD9-4D69-91C4-89010BC0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A0BAA-6450-4A6A-8397-84C5E51C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4CBD7-8501-44B3-9C9C-F987C253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2A144-C464-49B9-9689-8BDA57FD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B8F9D-6FC0-4D41-94F1-19E12F03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D09CE-E314-423C-B578-A347FAE8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788A-3E97-44BF-9F69-3EEC79C6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9ED75-FF73-48ED-B6F8-14C03589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A599B-0D0E-464D-B622-AEFCA439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7B11D-4BA0-460E-97E2-00A0C654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E84FE-7357-40F9-AC3E-DF8A586C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6C8A0-B180-41A9-A4CF-A30F90DA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C2EFA-7CA4-4939-95BE-657562C0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9ADC3-7A50-4B51-8FAD-A87B4BCD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73749-4B7E-45BB-8C40-C2E86800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C216D-8539-4C97-AC5D-41EF0CE5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59CDC-BC9A-4342-A091-D0019C2D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5EA8-7687-4323-960E-BBB9AE1A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49A3F-C083-4B18-9FB4-277DFFF0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68F14-4C9E-485A-B508-8DB4A066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7AA3C-D6EF-40A2-946F-615E9FA6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2E075-F01A-418D-A6D5-4A363B74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66A65-6CD7-48CF-BC20-2C20DA0B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102E8-6530-4680-A2BE-F54BF230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02F1F-0A28-4F20-9A96-3B1D58F7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5981A-0322-412D-88E1-73CB9605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F6C51-A606-4BB7-98D7-3DCF91A5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8A109-4153-44E3-847D-DA165443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67AD-B6DB-4925-9379-AF29A18B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7B391-081A-447E-8386-D897E5EC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A79FC-5187-474C-A245-EECAF8B0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7AD23-C65E-4F80-AB19-D36FF2ED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DD6B0-B945-481C-90A9-3F241D1A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5B4D6-567B-44BB-9AD0-CCC976AB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3E23C3-88F4-40E9-A69B-3CDFF0D7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A7B3F4-5D44-4CCA-A790-D12A759E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A9540-5B92-41F6-A475-4F34B68B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559F7-012C-416E-B993-0ED58653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A2B4AD-CA8A-42AD-A204-DB413E11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71C0-059B-4F86-BD26-9CA365B3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66411-C1B6-4C9B-BDA0-66F986C0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A63BE4-C0BD-4007-9996-0789AA5E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8F24B-B172-4DA0-A0B6-05C8229A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59ABA-0F9A-413B-BA15-2C647DF5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F1467-1ED1-49DF-B2CB-789D7F27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F5ABC-AD53-4838-97FC-3D52EFF5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8F540E-D5C6-4E02-8713-6AB3FAC7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1B29B1-07CD-4A98-A716-872DDD4D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532053-CD93-40E1-BB0E-865202B3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771875-E809-4D09-AF3D-093F4D71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F80D-6BA4-4214-9E72-B7A70CE9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1EB8D-12F6-4FD0-8527-5D4E7802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6E339E-F702-40C9-9047-B6A77D44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DF3F8F-8BF7-4DDF-931F-2C2DD9FA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23C252-E874-433E-8CD2-AD93DD42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E31C8E-5C7B-463F-9F6A-4AB03E4C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9832EA-AC52-4F24-8E33-2108B920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67B4FB-A6E0-4800-8D7D-5A250D59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E962EE-A41B-4EE9-AF78-22DAFACB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6DBCF7-03B7-4A8C-A350-2BEAB5A7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871675-4289-4003-9E6E-93B194EF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2C44-BBE3-4CC3-84ED-C1647E36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584C3C-43E9-4C41-839B-E6D3DC54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60EF39-14F6-4DA9-83AD-6FD9CFEC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ACA1E0-BE48-4E16-B512-E503313E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D06C30-F54D-4278-9D8D-23D91E08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A95346-9DF0-407E-AD8F-A0DBAF41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0B8686-5329-4DC0-9EA4-4D6DAC47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455980-A829-484D-8FB6-B03DD0A2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B80F45-6714-4291-A07E-68D49898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AC9E60-23FE-4C79-88D3-41CBE1A0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35ACEA-C133-4059-B716-EE702879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6169-A88C-46B3-8D55-B931F800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73F738-11A7-4AA1-B3C5-F11B7FF8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7A18BD-7339-4171-A8FC-F184A915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C2ED66-D0CD-4537-9E07-89B1F0AB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89DA86-E0E8-432B-903D-0B21AE6E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1D0415-8CE9-4F3F-A656-DFF9C31C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8DCC8F-B90A-450B-8356-4CF6F0E0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60F0F9-6A4A-4E64-AA4E-DAE0358F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0BB6EE-EA09-4606-8C42-D2DB903D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7361C8-1B9A-492A-A1B6-0B35550F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DC89BD-EA80-4428-9174-990D3ADA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4A75-A05F-4A74-A795-3BF54675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58F1CC-807B-491F-885B-B82929AA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9A3554-EC7E-449F-9A38-265E7035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07EF3F-2CEC-4D31-AD14-5EE852C4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A714E0-6358-446F-A97B-30D343A9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EAF4D0-D59D-417C-93B9-74C2519F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52759C-D037-40D1-86CD-3C25328D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4800D2-6D99-43FD-8BA4-5CC38A2B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E76F6C-A1FD-4E13-B013-6AC9890B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F6FA0F-78E8-442E-BA3F-B203D106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864221-8423-4490-BA7C-6F1C0B85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DD03-B6FB-4705-80B4-CF392764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F095-05B4-4866-9FFA-199E5FBE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E91563-A386-4047-9F7D-282E07B7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3CE3AE-01D0-44F2-A89E-BD8DFFA9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7D52B3-44D3-4AD7-B3A3-248E7888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59BC5B-6F14-4B71-B7D7-916EF396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8F9D7A-1DA8-4681-A403-8EFDB13E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80835B-4A1E-4322-8DB5-7EFF5D22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7CAE0-A9FA-4B93-8A24-C8778480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71BA41-8843-4468-95BD-AE0B54E6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1D53F5-28A4-4145-A3CA-BE243F9B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9C9AFB-E2F1-46E3-BBF9-89E7467A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DF9F-B247-43D7-89CB-3DEB845E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5C359C-B687-4D00-9AEF-87BE575A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76F1FB-FA5F-42E3-91ED-17455787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9E90AF-4BAD-4E5B-A0F9-4A537272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A167AA-C9B2-48E9-8BF4-5C5C353A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FB5B3C-AB3A-4297-BA07-22A8A086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6A1AF3-04A5-4133-B322-A68EEA7F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8A453B-A918-4C71-9BFC-C0F3CCAA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C78BCB-E6DC-404F-B5D4-2D2D55BD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47A347-6844-4937-9E7D-81D8E1FB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7B0DD2-D932-4FDE-BEF8-90C25925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FD3B-E586-410D-BB9F-4D40EE0F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62E7D2-CE42-4E84-8464-7894591E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4AB97D-3AB5-4589-BF48-DE4E13A3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B81ECD-B4C9-4379-A332-ADF34697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AF442B-37F0-44AD-8389-882A2B4D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8B4124-47E1-4876-9A25-56A9176D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D3AB86-B220-4E78-9F89-468AFD8A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C54F86-6591-40D1-8681-09F59634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D1F6DA-5356-4622-A377-145831E1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E846AA-AE8F-409A-897A-6A21A72D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F361F3-A431-4D63-8D15-0CB66DEF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64A0-4DF0-4A67-B6FD-564F76A6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58D414-996D-4A4F-9DD7-6F122809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4A2089-C1CD-4B35-B227-EF634F23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B28704-DC0D-40E4-8682-BA1FAFBC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B74C44-5EF2-4DCA-92C1-3D2A59E4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7138B8-4B04-4DF1-853B-71598ABB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BDF5C8-277C-4630-8AC4-2B73ED59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B0C8E3-F1D8-42B8-859D-A4C2D1B2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E90889-CA2B-442E-84BB-2D3B2F34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053E60-213D-4762-BD09-F13D5216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B2645A-538D-4887-8593-E245AFF9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AAFB-78C2-4475-A7E4-0D74A95B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2442E8-CFB7-4A50-BA5B-AE1512D9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3CA716-9E2A-4C50-984D-023FE51F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9B66DA-5E88-47D1-AF79-55571E09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29F002-809D-4DCF-8DDD-BFE6CB94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F58E03-BCC0-4114-AC9C-D09E419E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81787A-19DE-486B-A952-9BC180D7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7DCBF0-E078-4196-B671-38161B1C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FE474A-A689-497A-B667-5EB1772F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F43AFA-5156-4651-AE26-6F01544D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2E00DD-A073-4F58-90F1-C8D68146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09F9E-93FF-43CC-9797-ADD5C742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5168DA-BF9E-4602-8EB7-958C2BFD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49A474-484B-44B8-A44F-A6E2044C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86DAC4-3396-4E61-8667-8B36E7EB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67CC5-8C9C-47D8-AA57-FF8E430B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66256-8ED1-4553-914B-BA68DACA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7DD05-0FBE-4988-A186-9BA5CA71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EDA7D-4FDD-428E-B989-5CCC13DE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596-A884-4C3F-B81C-8D122719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F1346-4876-4F0C-909A-0BD66F41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024E0-FD60-4D7A-9859-A8ABE869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7A3F4-191A-4756-BB8A-5034CD7A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43910-7CB1-43C2-88A7-6A4C16DF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0AC46-8D6F-48E3-A6ED-3D0EBBDD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82BCE-D7E0-4AC6-A631-496E94A7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B040B-56C3-4A4F-9E70-0DEEC5E6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77F3F-D599-48FB-85AB-2D4A48B1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DCCC2-5739-42D0-AB07-D1D3C439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A396A-09BA-412E-81A8-F25942D9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2DB6-8670-4356-9A09-97EF062B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52FB0-1704-44A8-B859-74C88EA8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97F6C-AA8F-4847-966B-3283330E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BD15E-D115-4990-A2A3-674EE7D0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009F1-2918-4CF6-B371-72210B52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879D9-6D12-4487-BA3A-2B5783F8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CF0A6-30E4-47B4-B47F-A93A464B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B35FB-FBBA-41D6-BBC3-A3668B9B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1D6C6-086A-4EBA-99AF-822E1823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EAD7F-A68F-4F48-914D-BF33D1FB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DD605-EE25-4FFA-A560-D9843905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FA1-F522-4701-8348-D20778FC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CBC59-4D2F-4791-AAC4-B0F3B807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574A4-E4FC-4E9A-85A4-6008397E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CCD61-E09E-4DA8-8358-188DA8FE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4B7E9-8B70-4B98-8609-379BE71C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8ECD0-AE10-4B05-971B-068E0726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472B2-6FD8-4622-A577-F174666B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702F7-1EF9-406A-9D84-6FE70D3F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693CB-273C-4D0C-8054-1901CE1F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BC80F-A59C-41EB-8911-3D166300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30DDB-7776-4856-A3DD-AF06B557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1CA2-86F5-4C49-B903-776BADEE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2912E-82EF-4150-833D-26CB7DDE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42067-91C4-4874-8D6D-522A7C28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8AB9E-CB73-429A-A18C-1D95F776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E69BC-79F0-4C59-806D-8C905766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54C50-25FC-4F75-A3FB-62322832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F958A-4084-4C80-8C0F-68523A4B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159E9-93F5-4453-B8EB-D4FB4F3C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CE797-6A4A-43E5-9182-F65E4C14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90D82-F2D8-4416-BD90-0E32D4A7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D795C-9184-47F4-B93A-5596BA3A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C0F0-678A-40B0-AF46-61034D12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3C8A7-F2E9-4260-8C09-350F1E11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7AEB4-8F7F-4CB0-8F0F-944D326A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84049-F62C-4F74-89C6-8F8E1F5D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D3265-38CF-4F75-96C6-3A07B78D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3E4E6-FE24-43BA-98E0-705E18EE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05230-94F2-4CD0-9BF2-319C5F17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33DD2-F10B-4439-9103-ACE14471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DD1BD-903B-413D-95DC-66844C75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0D619-ACDD-44C9-A032-6C7F045E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0D08D-B718-4C53-B28F-F410C6D2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90B-7342-42EB-B721-1FA4F3A7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6147E-8A18-47F6-9C12-0CEDE3BE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F13B3-E0BD-4AF8-96DE-2B090BED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778B4-EE20-4B35-8ED2-FF4CA284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0B09B-A626-4922-ABE1-BDC9F2DD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0D4BA-2BE7-4068-AF0C-B9E251A2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E9960-35A1-4198-8E29-1D7143E7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92ADC-0342-4FEA-AF16-2ED80A22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93CA6-2C1A-4F6B-9A42-2382160E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28744-F984-4399-B470-458EDCF1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C865B-EF3F-4CAE-8523-1B689F46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6E1A-A2FB-423C-AAE0-CEA02EC7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6264B-D9B1-4C7D-B928-024573E5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FE1E9-0BFB-46D0-BE7A-37075739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D46A5-0540-4638-A338-3EE7E197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DF475-ACBA-4D9A-AC91-C92C121C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87A79-DA9C-460B-92A6-1B166E71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26C45-7BC7-4767-962C-EAD5AB1E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BB2A7-798E-433D-B479-85154C75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A3B1C-F30A-47A9-815D-31FCA51B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62796-9DAF-4CBD-90ED-D9836D47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1AB5F-81AC-44B9-AFC3-848FDFC2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2CFC-A417-4E92-9910-DB73FE6ED2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3EFF-9351-4C40-85E4-CE9AB1DE67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52B4-6743-4982-848D-348BDA45FB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6D72-E408-47FF-909A-5F7D4D5732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6744-F412-4F2A-AA77-39036A2F6D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45F2-B17E-4CFB-AB91-E802E10D33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692C-79C1-45E3-8759-3A422AF6B2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B9B2-C22F-4C16-89A9-B465C2FD1F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687A-9A4F-47A4-9BF0-05FDEF5EA0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0D14-AED1-4F0D-85A3-A8EB56E3BF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99B1-1454-4EA8-9776-C6E715696B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77EF-5CC2-4792-8155-BC6FB0F373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4A98-595B-4AB2-947D-CFE02B5781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8639-6BF0-421C-9438-DDF594FA4C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8B07-0F3B-4370-93FC-3D42F21C4D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954C-E57B-4BC2-8826-DFDEBBABFE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4C60-89E7-41BB-9379-12194B26E6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8945-84D2-48F7-A2F4-391491BC20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4D90-568B-49B8-A45B-B19BF28171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A128-ABC4-4760-AA10-EE808D2735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B165-7CB6-426D-A2B7-17200E1707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45D8-E018-4169-8B19-93B23639CF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51DA-4859-4A3D-8D07-24C595509B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81FA-369B-4A24-A9C5-B50B19C651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6121-CE3A-4833-8875-E07C433D7A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E1C6-20C9-4C2E-A327-C436732BDD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6968-6009-4880-B4F9-2B91E70A47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1DD2-7142-4BAF-A585-4DCE808353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F866-9B64-434D-8227-4F3986F357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41FA-8383-40EF-B50B-D2273538AD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8E2E-12C7-4765-A2F7-D178D6550D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F99F-BFDA-4014-B155-C364CEEC33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4997-E874-4BFE-A1B0-48011B1255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E862-B7C2-46CF-86C8-020254B1DA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705D-F605-4165-93B0-A3E7C10829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298B-6906-4526-9C84-48776E4699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1816-0475-407A-908B-67D727AA94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C7D4-AA5A-4D3A-8E08-954575AE25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43E2-1B7D-42A1-8849-5E26070CCE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D281-787D-49FD-B848-6592BCA742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62240" y="3228840"/>
            <a:ext cx="461952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8429760" cy="48578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1079640" cy="3193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900000" y="2421000"/>
            <a:ext cx="1079640" cy="3189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928800" y="2852640"/>
            <a:ext cx="1079280" cy="3193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195640" y="1989000"/>
            <a:ext cx="1079280" cy="3193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2195640" y="2421000"/>
            <a:ext cx="1079280" cy="3189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2224080" y="2852640"/>
            <a:ext cx="1079640" cy="3193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2225520" y="3284640"/>
            <a:ext cx="1079640" cy="3189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3492360" y="1989000"/>
            <a:ext cx="1079640" cy="3193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3492360" y="2852640"/>
            <a:ext cx="1079640" cy="3193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3564000" y="3284640"/>
            <a:ext cx="1079280" cy="318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4788000" y="2421000"/>
            <a:ext cx="1079280" cy="318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4859280" y="2852640"/>
            <a:ext cx="1079640" cy="3193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6227640" y="3255840"/>
            <a:ext cx="1079640" cy="3193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1893960" y="40482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4989600" y="40910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8101080" y="407664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1979640" y="4437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5003640" y="4437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8042400" y="44370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755640" y="5157720"/>
            <a:ext cx="2664000" cy="3193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2"/>
          <a:stretch/>
        </p:blipFill>
        <p:spPr>
          <a:xfrm>
            <a:off x="684360" y="5502240"/>
            <a:ext cx="3382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9410" descr=""/>
          <p:cNvPicPr/>
          <p:nvPr/>
        </p:nvPicPr>
        <p:blipFill>
          <a:blip r:embed="rId1"/>
          <a:stretch/>
        </p:blipFill>
        <p:spPr>
          <a:xfrm>
            <a:off x="147600" y="271440"/>
            <a:ext cx="8848800" cy="63151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3095640" cy="3193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684360" y="1327320"/>
            <a:ext cx="3095640" cy="3189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684360" y="2290680"/>
            <a:ext cx="3095640" cy="3193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684360" y="2637000"/>
            <a:ext cx="3095640" cy="3189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3708360" y="4307040"/>
            <a:ext cx="3311640" cy="3189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3708360" y="4653000"/>
            <a:ext cx="3311640" cy="3189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8"/>
          <a:stretch/>
        </p:blipFill>
        <p:spPr>
          <a:xfrm>
            <a:off x="611280" y="5603760"/>
            <a:ext cx="3311280" cy="3193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9"/>
          <a:stretch/>
        </p:blipFill>
        <p:spPr>
          <a:xfrm>
            <a:off x="611280" y="5950080"/>
            <a:ext cx="3311280" cy="3189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0"/>
          <a:stretch/>
        </p:blipFill>
        <p:spPr>
          <a:xfrm>
            <a:off x="611280" y="6265800"/>
            <a:ext cx="3311280" cy="3193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1"/>
          <a:stretch/>
        </p:blipFill>
        <p:spPr>
          <a:xfrm>
            <a:off x="8259840" y="3357720"/>
            <a:ext cx="301680" cy="3189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2"/>
          <a:stretch/>
        </p:blipFill>
        <p:spPr>
          <a:xfrm>
            <a:off x="8244000" y="3789360"/>
            <a:ext cx="301680" cy="3189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3"/>
          <a:stretch/>
        </p:blipFill>
        <p:spPr>
          <a:xfrm>
            <a:off x="8244000" y="4149720"/>
            <a:ext cx="301680" cy="3189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4"/>
          <a:stretch/>
        </p:blipFill>
        <p:spPr>
          <a:xfrm>
            <a:off x="8244000" y="4508640"/>
            <a:ext cx="301680" cy="3189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5"/>
          <a:stretch/>
        </p:blipFill>
        <p:spPr>
          <a:xfrm>
            <a:off x="8459640" y="4941720"/>
            <a:ext cx="301680" cy="3193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6"/>
          <a:stretch/>
        </p:blipFill>
        <p:spPr>
          <a:xfrm>
            <a:off x="8532720" y="5300640"/>
            <a:ext cx="301680" cy="3189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7"/>
          <a:stretch/>
        </p:blipFill>
        <p:spPr>
          <a:xfrm>
            <a:off x="8504280" y="5661000"/>
            <a:ext cx="301680" cy="3189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8"/>
          <a:stretch/>
        </p:blipFill>
        <p:spPr>
          <a:xfrm>
            <a:off x="8532720" y="6035760"/>
            <a:ext cx="3016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11:24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